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6960" y="912960"/>
            <a:ext cx="6866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Ancient Rome and Early Christianity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5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.D.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5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80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ivilizations emerge and develop on fertile river plains in Mesopotamia, Egypt, the Indus Valley, and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74800" y="2174760"/>
            <a:ext cx="5338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r with Cart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e and Carthage begi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unic W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h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s between 264–14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e defeats Carthage, wins Sicily, in fir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year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Hannib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arthaginian general—ave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at in Second Punic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tacks Italy through Spain and France, doesn’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 R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79480" y="169056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Rome Spreads Its Power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4800" y="4778280"/>
            <a:ext cx="5757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me Trium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 general Scipio defeats Hannibal in 20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me destroys Carthage, enslaves people in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 (149–14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0160" y="349236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reation of the Roman Empire transforms Roman government, society, economy, and cultur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0160" y="2397240"/>
            <a:ext cx="6010200" cy="1032840"/>
            <a:chOff x="1370160" y="2397240"/>
            <a:chExt cx="6010200" cy="1032840"/>
          </a:xfrm>
        </p:grpSpPr>
        <p:sp>
          <p:nvSpPr>
            <p:cNvPr id="142" name=""/>
            <p:cNvSpPr/>
            <p:nvPr/>
          </p:nvSpPr>
          <p:spPr>
            <a:xfrm>
              <a:off x="1370160" y="23972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0160" y="2787480"/>
              <a:ext cx="601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Roman Empire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73720" y="182736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Republic Collapse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69080" y="885960"/>
            <a:ext cx="37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Roman Empire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360" y="2403360"/>
            <a:ext cx="5788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Turm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p between rich and poor widens as Ro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ublic gr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rmers, former soldiers, lose to large esta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ome hom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ribunes, Tiberius and Gaius, try to help poo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murd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ivil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conflict between groups within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ntry beg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73360" y="5048280"/>
            <a:ext cx="5810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litary Uphea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becomes less disciplined and disloy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ldiers recruited from poor; show loyalty onl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gener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9480" y="1690560"/>
            <a:ext cx="32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Republic Collap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73360" y="2174760"/>
            <a:ext cx="58006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ius Caesar Take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leader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ulius Caes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lected consul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9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esar, Crassus, Pompey form a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riumvi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of three r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victories give Caesar increasing popu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mpey fears Caesar’s growing power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esar defeats Pompey’s armies in Greece, As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in, Egyp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esar is named dictator for life in 4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9480" y="1690560"/>
            <a:ext cx="32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Republic Collap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73360" y="217476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’s Re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esar makes reforms: grants wider citizenshi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jobs for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of senators opposes Caesar; kills him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rch 15, 4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73360" y="3699000"/>
            <a:ext cx="58006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ginning of the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Caesar’s supporters take control; be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ond Triumvi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tavian, Mark Antony, Lepidus alliance end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alousy, viol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3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Mark Antony and Cleopatra’s force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ated at Ac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tavian accepts title of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ugus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“exalted one,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rules R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72640" y="159876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Vast and Powerful Empir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x Ro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 Augustus, Rome moves from a republic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no longer resides with citizens, bu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r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me enjoys 200 years of peace and prospe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nown as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ax Rom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426240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ound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ustus, Rome’s ablest ruler, creates l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 of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rifies Rome with beautiful public build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ts up a civil service to administer the 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80920" y="1690560"/>
            <a:ext cx="371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Vast and Powerful Emp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73360" y="2174760"/>
            <a:ext cx="58006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riculture and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iculture most important industry in empi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0% of Romans f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coin, denarius, makes trade with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ire ea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e has vast trading network, includes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of Roman roads links empire to Pers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ss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73360" y="159876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Roman World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aves and Cap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avery is a significant part of Roman life in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ies and fa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slaves become gladiators; forced to fight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73360" y="363996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ds and Godd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Romans honor guardian spirits and g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piter, Juno, Miner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ship of emperor becomes part of of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igion of R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0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73360" y="514836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ciety and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 live well; most people are poor,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in from gover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0 holidays and Colosseum events create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the ma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370160" y="2486160"/>
            <a:ext cx="6724800" cy="1078200"/>
            <a:chOff x="1370160" y="2486160"/>
            <a:chExt cx="6724800" cy="1078200"/>
          </a:xfrm>
        </p:grpSpPr>
        <p:sp>
          <p:nvSpPr>
            <p:cNvPr id="209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0160" y="2784600"/>
              <a:ext cx="6724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Rise of Christianity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370160" y="35002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ristianity arises in Roman-occupied Judea and spreads throughout the Roman Emp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3000" y="182736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Life and Teachings of J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70520" y="885960"/>
            <a:ext cx="443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Rise of Christia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mans Conquer Ju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e conquers Judea, home of Jews; makes it par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empire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Jews believe a Messiah, or savior, eventual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ll free th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3360" y="3914640"/>
            <a:ext cx="5788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sus of Nazar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es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 Jew born in Bethlehem (around 6 to 4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raised in Naz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age 30 begins preaching monotheism, T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good works, reportedly performs mira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esses personal relationship with God, lov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iends and enem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6960" y="912960"/>
            <a:ext cx="6866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Ancient Rome and Early Christianity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5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.D.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5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7320" y="250200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oman Re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7320" y="30780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oman Emp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6600" y="359100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ise of Christia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6600" y="41292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all of the Roman Emp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46240" y="46735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42640" y="4662360"/>
            <a:ext cx="51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me and the Roots of Western Civil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Growing Mov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post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the twelve men who are disciples (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pils) of Jes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sus ignores wealth and status; his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als to po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81640" y="1690560"/>
            <a:ext cx="40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Life and Teachings of Je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774800" y="3699000"/>
            <a:ext cx="54658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sus’ De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Jews view Jesus as the Messiah;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him as a her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 governor Pontius Pilate sentences Je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be cruc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stles believe Jesus ascended into hea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ris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Greek word for “savior”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ristia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rived from “Christ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72280" y="159876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hristianity Spreads Through the Empir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wth of Christia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llowers spread Christianity—new 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Jesus’ teach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73360" y="3170160"/>
            <a:ext cx="57751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ul’s 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stl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a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spends life preac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preting Christia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languages of Latin and Greek help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read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ul stresses Jesus is son of God who die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’s s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ul declares that Christianity open to all conve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wish Rebe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ws rebel against Rome; Romans stor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erusalem, destroy Tem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bellions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66, 70, 132 fail; Jews driv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home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Diaspo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centuries of Jewish exile (from Gree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d for “dispersal”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82720" y="1690560"/>
            <a:ext cx="49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hristianity Spreads Through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74800" y="427032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ecution of the Christ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s won’t worship Roman gods; beco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mies of Roman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 rulers use Christians as scapegoat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x Rom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rumbles, Christians crucified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rned, killed in ar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71920" y="15987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World Religio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3360" y="2174760"/>
            <a:ext cx="58896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ristianity’s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ity becomes powerful force; reason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spread appe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races all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ves hope to the power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eals to those repelled by extravagance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fers personal relationship with a loving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ises eternal life after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74800" y="2174760"/>
            <a:ext cx="5465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antine Accepts Christia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nstant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Roman emperor battles for contr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Rome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3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vision of cross, Christian symbol; places 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diers’ sh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ieves Christian God helped him win; legaliz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380 Emperor Theodosius mak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ity religion of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79120" y="169056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World Religion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79120" y="169056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World Religion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y Christian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ests direct a single church;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ish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pervi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ous chu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stl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e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irst bishop of Rome; clergy trac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ir authority to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the father, or head, of Christian Church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me, center of Churc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0" y="217476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ingle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 leaders compile standard Christian belief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New Test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Testament added to Hebrew Bible (als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lled Old Testamen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79120" y="169056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World Religion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774800" y="3724200"/>
            <a:ext cx="54658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athers of th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writers and scholars of teachings call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thers of the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ustine, bishop in North Africa, one of the mo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ortant Fa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ssed receiving sacraments to obtain God’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rote famous book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ity of G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1600" y="2486160"/>
            <a:ext cx="4213080" cy="1640520"/>
            <a:chOff x="1371600" y="2486160"/>
            <a:chExt cx="4213080" cy="1640520"/>
          </a:xfrm>
        </p:grpSpPr>
        <p:sp>
          <p:nvSpPr>
            <p:cNvPr id="299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1600" y="2867040"/>
              <a:ext cx="421308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The Fall of the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Roman Empir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370160" y="415764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problems and innovations spur the division and decline of the Roman Emp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74440" y="182736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 Century of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71600" y="885960"/>
            <a:ext cx="555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The Fall of the Roman Empi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73360" y="2403360"/>
            <a:ext cx="5788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mpire Dec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x Rom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nds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80 with death of emper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us Aurel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sequent emperors unable to govern giant 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73360" y="3676680"/>
            <a:ext cx="5711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me’s Economy Wea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ile tribes outside the empire disrupt tr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drop in value of money and rise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ces—weakens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worked soil, war-torn farmland leads to foo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ort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1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73720" y="15987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Century of Crisi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73360" y="2174760"/>
            <a:ext cx="5445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litary and Political Turm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third centu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oman military in turmoil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diers loyal to commanders, not Rom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ers fighting for thr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enlist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ercena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foreig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diers they pay to f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citizens lose interest in the affairs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2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71240" y="2486160"/>
            <a:ext cx="6023520" cy="1051920"/>
            <a:chOff x="1371240" y="2486160"/>
            <a:chExt cx="6023520" cy="1051920"/>
          </a:xfrm>
        </p:grpSpPr>
        <p:sp>
          <p:nvSpPr>
            <p:cNvPr id="6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240" y="2895480"/>
              <a:ext cx="60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Roman Republic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76640" y="3589200"/>
            <a:ext cx="66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arly Romans establish a republic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grows powerful and spreads its infl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75160" y="159876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mperors Attempt Reform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ocletian Reforms the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84 Empe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ioclet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stores orde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vides empire in t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emperors in Greek-speaking East, Latin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aking W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305 Diocletian retires, rivals compet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73360" y="4275000"/>
            <a:ext cx="5419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antine Moves th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ine becomes emperor of Wester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ire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3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izes Eastern Empire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324; mov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 capital to Byzanti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zantium eventually renam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onstantin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city of Constant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3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74080" y="1598760"/>
            <a:ext cx="47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Western Empire Crumble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manic Inva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gol nomads from Asia, the Huns, inva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hern borders of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rmanic tribes flee Huns, enter Roman land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ck R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73360" y="367812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ila the H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tti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unites the Huns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444; plunders 7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ies in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tacks Rome in 452; famine and disea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vents vic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4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773360" y="522756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Empire No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st Roman emperor falls to Germans in 476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 of Western Emp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t thrives for another thousand yea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Byzantine Empir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371240" y="2486160"/>
            <a:ext cx="6595200" cy="1640520"/>
            <a:chOff x="1371240" y="2486160"/>
            <a:chExt cx="6595200" cy="1640520"/>
          </a:xfrm>
        </p:grpSpPr>
        <p:sp>
          <p:nvSpPr>
            <p:cNvPr id="346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71240" y="2867040"/>
              <a:ext cx="659520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Rome and the Roots of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Western Civilization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370160" y="408456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omans develop many ideas and institutions that become fundamental to Western Civ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71560" y="1827360"/>
            <a:ext cx="61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Legacy of Greco-Roman Civilizatio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70160" y="941400"/>
            <a:ext cx="4455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Rome and the Roots of 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Western Civilizati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Culture Eme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s adopt aspects of Greek and Hellenisti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 i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Greco-Roman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or classic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viliz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73360" y="3905280"/>
            <a:ext cx="57117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man Fine 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s develop bas-relief sculptures to tell sto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tists skilled in creating mosaics, painting fresc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ompe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Roman town; ash from volcano erup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79 preserves 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714680" y="797040"/>
            <a:ext cx="658800" cy="511920"/>
            <a:chOff x="1714680" y="797040"/>
            <a:chExt cx="658800" cy="511920"/>
          </a:xfrm>
        </p:grpSpPr>
        <p:sp>
          <p:nvSpPr>
            <p:cNvPr id="359" name=""/>
            <p:cNvSpPr/>
            <p:nvPr/>
          </p:nvSpPr>
          <p:spPr>
            <a:xfrm>
              <a:off x="1714680" y="79704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87480" y="99864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87480" y="97164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74800" y="2174760"/>
            <a:ext cx="5465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arning and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s borrow from Greek philosophy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Virg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rites ep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ene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deled aft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r’s Greek e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 historia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aci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xcels in wri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ually accurate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comprehensive loo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 Roman lif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84160" y="1690560"/>
            <a:ext cx="48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Legacy of Greco-Roman Civil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714680" y="797040"/>
            <a:ext cx="658800" cy="511920"/>
            <a:chOff x="1714680" y="797040"/>
            <a:chExt cx="658800" cy="511920"/>
          </a:xfrm>
        </p:grpSpPr>
        <p:sp>
          <p:nvSpPr>
            <p:cNvPr id="368" name=""/>
            <p:cNvSpPr/>
            <p:nvPr/>
          </p:nvSpPr>
          <p:spPr>
            <a:xfrm>
              <a:off x="1714680" y="79704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87480" y="99864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87480" y="97164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74440" y="159876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Legacy of R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atin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in was official language of Roman Catholi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rch until 19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s into French, Spanish, Portugues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alian, Roman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than half the words in English stem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t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73360" y="424512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ster Bui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s pioneer use of arch; also used dom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que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tructures to bring water in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ties, tow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714680" y="797040"/>
            <a:ext cx="658800" cy="511920"/>
            <a:chOff x="1714680" y="797040"/>
            <a:chExt cx="658800" cy="511920"/>
          </a:xfrm>
        </p:grpSpPr>
        <p:sp>
          <p:nvSpPr>
            <p:cNvPr id="378" name=""/>
            <p:cNvSpPr/>
            <p:nvPr/>
          </p:nvSpPr>
          <p:spPr>
            <a:xfrm>
              <a:off x="1714680" y="79704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7480" y="99864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87480" y="97164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79480" y="1690560"/>
            <a:ext cx="29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Legacy of R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73360" y="217476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man System of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Roman law form basis of moder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gal 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73360" y="3178080"/>
            <a:ext cx="544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me’s Enduring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preserving and adding to Greek civilizatio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me strengthened the Western cultural trad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714680" y="797040"/>
            <a:ext cx="658800" cy="511920"/>
            <a:chOff x="1714680" y="797040"/>
            <a:chExt cx="658800" cy="511920"/>
          </a:xfrm>
        </p:grpSpPr>
        <p:sp>
          <p:nvSpPr>
            <p:cNvPr id="389" name=""/>
            <p:cNvSpPr/>
            <p:nvPr/>
          </p:nvSpPr>
          <p:spPr>
            <a:xfrm>
              <a:off x="1714680" y="79704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7480" y="99864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87480" y="97164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1920" y="18273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Origins of Rom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9440" y="885960"/>
            <a:ext cx="407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Roman Republic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2403360"/>
            <a:ext cx="5914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me’s Ge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e of Rome chosen for its fertile soil and strate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ted on Italian peninsula in 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diterranean 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t on seven hills on Tiber 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73360" y="4184640"/>
            <a:ext cx="5581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Ro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ins, Greeks, and Etruscans compete fo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ins found original settlement of R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ween 1000 and 5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ruscans native to northern Italy;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man civi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73360" y="15987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Early Republic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73360" y="217476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y Ru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ound 6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Etruscan kings begin to rule R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ngs build Rome’s first temples and public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s overthrow cruel Etruscan king in 509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s found a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re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government in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izens elect lea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78400" y="1690560"/>
            <a:ext cx="28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Early Republic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73360" y="2174760"/>
            <a:ext cx="58006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ricians and Plebe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groups struggle for power in early Ro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ub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atric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wealthy landowning class that 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Plebe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artisans, merchants, and farmers; 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te, can’t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Tribu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elected representatives pro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ebeians’ political righ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78400" y="1690560"/>
            <a:ext cx="28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Early Republic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3360" y="2174760"/>
            <a:ext cx="58006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elv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45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ficials carve Roman laws on twe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ed Twelve Tables, they become basis for 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 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ws confirm right of all free citizens to protec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izenship is limited to adult male landow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welve Tables are hung in the For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8400" y="1690560"/>
            <a:ext cx="28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Early Republic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3360" y="2174760"/>
            <a:ext cx="58006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vernment Under the Re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e elects two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consu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lead army, on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Sen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chosen from Roman upper class; m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ign, domestic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cratic assemblies elect tribunes, make law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peo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icta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eaders appointed briefly in tim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73360" y="4778280"/>
            <a:ext cx="580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oman 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l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military unit of 5,000 infantr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ed by caval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my is powerful; key factor in Rome’s ris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eat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74080" y="159876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Rome Spreads Its Power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me Conquers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ans defeat Etruscans in north and Gr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ty-states in 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26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Rome controls Italian peninsu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quered peoples treated justly; this en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me to gr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3360" y="3995640"/>
            <a:ext cx="541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me’s Commerci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e establishes large trading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Mediterranean Sea provides 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de ro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thage, powerful city-state in North Afric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on rivals R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2:24:42Z</dcterms:modified>
  <cp:revision>813</cp:revision>
  <dc:subject/>
  <dc:title>No Slide Title</dc:title>
</cp:coreProperties>
</file>